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5BDF-C37A-458E-B8DD-312769AF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E0EF-A0A3-43EA-81E6-526ADC82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472-8FB5-4A87-9A4E-566B9558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BF82-496B-483C-9C4A-77ABEE4A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163E-148D-49B2-A52F-013693B3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2FA0-C279-49A5-B425-981862EB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6373-2E0C-40A2-BB1C-9AFCDE83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9576-63C2-42F9-82F0-2D4366D4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31F9-F951-4190-A208-0FF674C8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D7C9-CC19-473D-A4C8-D1EC8B40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4A51-23CA-47BF-B993-63A7CD30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64B1-4209-4CA7-8D55-3D8602E4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1C2E-B81A-41CF-8BFA-5EC26404FC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_15_15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3348000" y="692280"/>
            <a:ext cx="541332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80008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Courier New"/>
              </a:rPr>
              <a:t>Карбышев</a:t>
            </a:r>
            <a:endParaRPr b="1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80008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80008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Courier New"/>
              </a:rPr>
              <a:t>Дмитрий</a:t>
            </a:r>
            <a:endParaRPr b="1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80008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80008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Courier New"/>
              </a:rPr>
              <a:t>Михайлович</a:t>
            </a:r>
            <a:endParaRPr b="1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80008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4500720" y="5516640"/>
            <a:ext cx="295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69696"/>
                </a:solidFill>
                <a:latin typeface="Arial"/>
              </a:rPr>
              <a:t>(1880-1945)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969696"/>
              </a:solidFill>
              <a:latin typeface="Arial"/>
              <a:ea typeface="Arial"/>
            </a:endParaRPr>
          </a:p>
        </p:txBody>
      </p:sp>
      <p:pic>
        <p:nvPicPr>
          <p:cNvPr id="44" name="Picture 7" descr="1268327492[1]"/>
          <p:cNvPicPr/>
          <p:nvPr/>
        </p:nvPicPr>
        <p:blipFill>
          <a:blip r:embed="rId2"/>
          <a:stretch/>
        </p:blipFill>
        <p:spPr>
          <a:xfrm>
            <a:off x="324000" y="1989000"/>
            <a:ext cx="2706480" cy="401004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f_15_15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  <p:sp>
        <p:nvSpPr>
          <p:cNvPr id="46" name="WordArt 3"/>
          <p:cNvSpPr txBox="1"/>
          <p:nvPr/>
        </p:nvSpPr>
        <p:spPr>
          <a:xfrm>
            <a:off x="3348000" y="692280"/>
            <a:ext cx="541332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80008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Courier New"/>
              </a:rPr>
              <a:t> </a:t>
            </a:r>
            <a:endParaRPr b="1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80008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_15_15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2771640" y="692280"/>
            <a:ext cx="5683320" cy="32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urier New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urier New"/>
              <a:ea typeface="Courier New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230560" y="436572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142-ле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25257[1]"/>
          <p:cNvPicPr/>
          <p:nvPr/>
        </p:nvPicPr>
        <p:blipFill>
          <a:blip r:embed="rId2"/>
          <a:srcRect l="0" t="0" r="0" b="125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f_15_15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250920" y="4437000"/>
            <a:ext cx="856908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"Нет большей победы, чем победа над соб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1268327492[1]"/>
          <p:cNvPicPr/>
          <p:nvPr/>
        </p:nvPicPr>
        <p:blipFill>
          <a:blip r:embed="rId2"/>
          <a:stretch/>
        </p:blipFill>
        <p:spPr>
          <a:xfrm>
            <a:off x="3348000" y="620640"/>
            <a:ext cx="2365560" cy="3505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Users\Admin\Desktop\portret-dmitriya-karbysheva.jpg"/>
          <p:cNvPicPr/>
          <p:nvPr/>
        </p:nvPicPr>
        <p:blipFill>
          <a:blip r:embed="rId3"/>
          <a:stretch/>
        </p:blipFill>
        <p:spPr>
          <a:xfrm>
            <a:off x="-571680" y="0"/>
            <a:ext cx="989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f_15_15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_15_15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0" y="-144360"/>
            <a:ext cx="9177480" cy="70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71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f_15_15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  <p:sp>
        <p:nvSpPr>
          <p:cNvPr id="63" name="WordArt 3"/>
          <p:cNvSpPr txBox="1"/>
          <p:nvPr/>
        </p:nvSpPr>
        <p:spPr>
          <a:xfrm>
            <a:off x="3348000" y="692280"/>
            <a:ext cx="541332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80008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Courier New"/>
              </a:rPr>
              <a:t> </a:t>
            </a:r>
            <a:endParaRPr b="1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80008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pic>
        <p:nvPicPr>
          <p:cNvPr id="64" name="Picture 7" descr="C:\Users\Admin\Desktop\dmitrij-karbyshev-na-doprose.jpg"/>
          <p:cNvPicPr/>
          <p:nvPr/>
        </p:nvPicPr>
        <p:blipFill>
          <a:blip r:embed="rId2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06:41:26Z</dcterms:created>
  <dc:creator>noutbook</dc:creator>
  <dc:description/>
  <dc:language>en-US</dc:language>
  <cp:lastModifiedBy>Admin</cp:lastModifiedBy>
  <dcterms:modified xsi:type="dcterms:W3CDTF">2022-05-10T06:42:00Z</dcterms:modified>
  <cp:revision>24</cp:revision>
  <dc:subject/>
  <dc:title>Слайд 1</dc:title>
</cp:coreProperties>
</file>